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4A34-E5C4-4B97-B8A0-A2BDAE7D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9195-9194-4F55-9B7B-4B3BD1B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B4ED-360A-4401-9662-82785D5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274F-7A1B-418B-8161-05893CD2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55B3-7D4A-4C74-B287-9F389D0B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C06D-7C8D-4E12-A740-042C8A0C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5044-641F-460A-953C-00A07A7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28C-BC4D-4368-85E3-BD315FA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1D07-74C6-4FC0-BC13-F9ED03A9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FB8B-F579-43B2-B41B-3FF2AEC3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CC64-333A-4916-B9B2-A86DF7B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B097-9660-4561-BE51-C1A40FB5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15F4-4F4F-4EA3-BE21-01D7DC7C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503-1311-4332-9612-A680C52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E08B-3E18-4C66-B4DA-3186E3B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1924-AC1A-41BF-ABD8-7450B81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67D-6810-4D57-BE46-36B226E6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EB7-8005-458D-B86F-183C0E2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98EF-F8C8-4E3C-958A-E732296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06C5-7DBA-4AC2-AF7B-E25BC4D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67B6-84E4-4F55-9040-F95CA68D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5EED-F4CB-4288-B1BF-19C06E8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B26D-BAAF-4B75-9EC2-C6A9C2E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B187-CF38-4EAE-B9DB-0732D2F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1E5-DEB6-40ED-92C4-068B3E65F5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35DA-1CE2-41B3-9315-FF9BE038F0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p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Quentin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cts About The Sun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05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21:02Z</dcterms:created>
  <dc:creator>qbrown</dc:creator>
  <dc:description/>
  <dc:language>en-US</dc:language>
  <cp:lastModifiedBy>qbrown</cp:lastModifiedBy>
  <dcterms:modified xsi:type="dcterms:W3CDTF">2011-04-01T18:24:14Z</dcterms:modified>
  <cp:revision>1</cp:revision>
  <dc:subject/>
  <dc:title>Space</dc:title>
</cp:coreProperties>
</file>